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E28C-61D4-41B6-A05E-0B4F9E08A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re référence à la problématiqu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4A8-3822-49EF-811A-7FE4203B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1469-9712-447A-9A8A-992B8BA7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34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2749-7969-4A3E-A42B-5D929564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8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636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8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636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C3D-D0C9-4CD3-B0B8-8E1E0170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5981-40BC-41A7-B248-B0E02220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4EFA-6C3E-4F8B-80AF-82A62680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4B9F-F0BF-4B6B-AF86-E3D2ABBE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27D4-4F1C-4867-ADB6-B0C48076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9DB8-9F5B-441A-81D8-3F6C1DF9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1F32-FA90-4ED6-B808-6F5D2280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003D-1355-4238-A3CE-F5251AC7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D07-FBDF-46BB-8C8D-E059DD76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34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927E-09B3-4E23-A299-3D5983F7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1980-17BD-4C23-AD2D-57E15CBB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9C8E-7678-4DCF-8D93-248CD4DB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34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2511-5C1A-4913-B436-153F5236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18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636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18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636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F090-0812-422A-97D4-BF1E4031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56C-4EA6-426B-9FC7-A553690D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039-1104-4520-811D-2FA7D749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1E7-DAB7-4011-8D46-B0D517C8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4A7-2176-4852-9022-3BF47335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F4E-2F1B-446D-959B-72B63875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34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76B-7141-4277-98BF-C7C12673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865-EC71-4FDB-A199-E91D7EE5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52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7B62-2684-4B4C-B989-70B6741197F1}" type="datetime3"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7125-A63A-45B5-8AB5-4BD690AB4C95}" type="slidenum"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" name="logo2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87660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8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52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8848-2ABD-4EF3-8EB9-9284A20CB281}" type="datetime3"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GL café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D90F-3734-4B3B-9A38-1DE736290E0B}" type="slidenum"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2" descr=""/>
          <p:cNvPicPr/>
          <p:nvPr/>
        </p:nvPicPr>
        <p:blipFill>
          <a:blip r:embed="rId3"/>
          <a:stretch/>
        </p:blipFill>
        <p:spPr>
          <a:xfrm>
            <a:off x="8077320" y="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GL Café’s Presentation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9320" y="17521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Organi</a:t>
            </a: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ation and 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Details</a:t>
            </a: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 of the Created CASE Workshop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5" name="anne" descr=""/>
          <p:cNvPicPr/>
          <p:nvPr/>
        </p:nvPicPr>
        <p:blipFill>
          <a:blip r:embed="rId1"/>
          <a:stretch/>
        </p:blipFill>
        <p:spPr>
          <a:xfrm>
            <a:off x="1143000" y="3600360"/>
            <a:ext cx="1714680" cy="1428840"/>
          </a:xfrm>
          <a:prstGeom prst="rect">
            <a:avLst/>
          </a:prstGeom>
          <a:ln w="0">
            <a:noFill/>
          </a:ln>
        </p:spPr>
      </p:pic>
      <p:pic>
        <p:nvPicPr>
          <p:cNvPr id="96" name="gilles" descr=""/>
          <p:cNvPicPr/>
          <p:nvPr/>
        </p:nvPicPr>
        <p:blipFill>
          <a:blip r:embed="rId2"/>
          <a:stretch/>
        </p:blipFill>
        <p:spPr>
          <a:xfrm>
            <a:off x="2971800" y="3532320"/>
            <a:ext cx="1714680" cy="1496880"/>
          </a:xfrm>
          <a:prstGeom prst="rect">
            <a:avLst/>
          </a:prstGeom>
          <a:ln w="0">
            <a:noFill/>
          </a:ln>
        </p:spPr>
      </p:pic>
      <p:pic>
        <p:nvPicPr>
          <p:cNvPr id="97" name="julien" descr=""/>
          <p:cNvPicPr/>
          <p:nvPr/>
        </p:nvPicPr>
        <p:blipFill>
          <a:blip r:embed="rId3"/>
          <a:stretch/>
        </p:blipFill>
        <p:spPr>
          <a:xfrm>
            <a:off x="4800600" y="3600360"/>
            <a:ext cx="171468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laurent" descr=""/>
          <p:cNvPicPr/>
          <p:nvPr/>
        </p:nvPicPr>
        <p:blipFill>
          <a:blip r:embed="rId4"/>
          <a:stretch/>
        </p:blipFill>
        <p:spPr>
          <a:xfrm>
            <a:off x="6667560" y="3760920"/>
            <a:ext cx="1714320" cy="1268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49720" y="51055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51055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u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4720" y="51055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Jul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5920" y="51055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il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duction Strea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24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1219320"/>
          <a:ext cx="4724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219320"/>
                    <a:ext cx="4724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AO/GL Café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4B0-1355-4442-A49F-A5D009BE2A8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3E7C5-FABF-41FF-BCEB-F887BC3E7E72}" type="datetime3">
              <a:rPr lang="en-US"/>
              <a:t>July 29, 2026</a:t>
            </a:fld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eption &amp; Analysis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 to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Merise Method Tool: Win’Design 4.21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One of the latest tools supporting MERISE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SQL scripts generation (tables, queries)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UML formal-capable tool : Objecteering 4.3.2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Reliability (excellent references BNP, Alcatel…)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Highly Customizable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High Availability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AO/GL Café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F92-34FD-42FB-AEA3-9A2A79AE0A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51088-CD60-4F56-9724-0E3AF6C11061}" type="datetime3">
              <a:rPr lang="en-US"/>
              <a:t>July 29, 2026</a:t>
            </a:fld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ding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 Too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CodeWarrior 6.0 for JAVA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Excellent referenc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Multi-platform : Windows, UNIX, PDA…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AO/GL Café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2F7-FDC6-453F-A308-EA9F213548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5AE1E-6340-4276-A418-B3A5A0E8AA04}" type="datetime3">
              <a:rPr lang="en-US"/>
              <a:t>July 29, 2026</a:t>
            </a:fld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sting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 To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Choice of the Rational Team Test :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Integration of a wide variety of sophisticated testing method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Industry-leading testing solution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AO/GL Café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F8E-9BAF-49DF-988D-EC71CF565A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9D417-CACE-4DAD-A06E-CD28D2699822}" type="datetime3">
              <a:rPr lang="en-US"/>
              <a:t>July 29, 2026</a:t>
            </a:fld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ocumentation Strea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844640" y="1317600"/>
          <a:ext cx="65372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4640" y="1317600"/>
                    <a:ext cx="65372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AO/GL Café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711-F3DE-4ED0-BB59-33D51936A10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3DA19-D445-4E31-B21A-F8C81A2D1E4D}" type="datetime3">
              <a:rPr lang="en-US"/>
              <a:t>July 29, 2026</a:t>
            </a:fld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ocumentation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 To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00"/>
                </a:solidFill>
                <a:latin typeface="Times New Roman"/>
              </a:rPr>
              <a:t>Microsoft Word for standard documentation :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Standard format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Javadoc for technical documentation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Shipped with JAVA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Word Converter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AO/GL Café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944-2E48-43B8-AAFD-DF7300AD04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9AB5E-AC55-4213-A8B4-031C03EE787D}" type="datetime3">
              <a:rPr lang="en-US"/>
              <a:t>July 29, 2026</a:t>
            </a:fld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figuration streams &amp; Referenti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452600" y="558720"/>
          <a:ext cx="6929280" cy="574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558720"/>
                    <a:ext cx="692928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AO/GL Café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E2D-6793-4979-A746-9C7B9E016F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8D2DF-DD74-4138-885B-3FFDE1FB8414}" type="datetime3">
              <a:rPr lang="en-US"/>
              <a:t>July 29, 2026</a:t>
            </a:fld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figuration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 Too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Choice of CVS :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Cross-platform (client side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Highly used (proof of reliability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Easily Available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AO/GL Café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6ED-7C7C-443F-AF61-2BFB40A49A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570B1-6CA1-428D-B02E-FCFF4254FD20}" type="datetime3">
              <a:rPr lang="en-US"/>
              <a:t>July 29, 2026</a:t>
            </a:fld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art 4 – Added Valu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Added Value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AO/GL Café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19A-D9C3-444D-BC39-B442EB734A7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A0503-E42F-466B-AAFA-823AD21423D9}" type="datetime3">
              <a:rPr lang="en-US"/>
              <a:t>July 29, 2026</a:t>
            </a:fld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dded value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Double Conception :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Use of conceptional methods in their fields of expertise (UML for OOC, MERISE for dB 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Referential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Gateways between Tool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Approach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AO/GL Café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FFF-D23F-4BAA-B136-0DA6F4ACFA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B9A0D-64D8-4812-B4D3-BCD3B438C46E}" type="datetime3">
              <a:rPr lang="en-US"/>
              <a:t>July 29, 2026</a:t>
            </a:fld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Presentation Plan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Organization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CASE Theoric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00"/>
                </a:solidFill>
                <a:latin typeface="Times New Roman"/>
              </a:rPr>
              <a:t>Approach, CASE, Our Concept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CASE WORKSHOP Streams &amp; Tool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00"/>
                </a:solidFill>
                <a:latin typeface="Times New Roman"/>
              </a:rPr>
              <a:t>Production, Documentation &amp; referential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Added Value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AO/GL Café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6BD1-FBB1-4351-BD5F-8567DA7D7B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C5D91-F4C1-419A-9777-A1F661C449A7}" type="datetime3">
              <a:rPr lang="en-US"/>
              <a:t>July 29, 2026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Part 1 - Organization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Organization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AO/GL Café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46B-19FE-401C-8EC0-6340D41DD0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D66DE-49DF-424C-A4BF-26D1988E093B}" type="datetime3">
              <a:rPr lang="en-US"/>
              <a:t>July 29, 2026</a:t>
            </a:fld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rgani</a:t>
            </a: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z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90720" y="1136520"/>
          <a:ext cx="7350120" cy="41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36520"/>
                    <a:ext cx="735012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AO/GL Café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430-628D-462C-81F3-D131590B005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09BC7-6383-4044-80F9-21BEF708C3FC}" type="datetime3">
              <a:rPr lang="en-US"/>
              <a:t>July 29, 2026</a:t>
            </a:fld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Part 2 - CASE Theor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Approach Goal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CASE Workshop Goal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CASE Workshop Concept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AO/GL Café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7A9-58C9-45F8-A3D5-0B434555F9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BC06C-0A1E-4282-BEE2-53A77C54E7C6}" type="datetime3">
              <a:rPr lang="en-US"/>
              <a:t>July 29, 2026</a:t>
            </a:fld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Approach Goa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To Link</a:t>
            </a: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808000"/>
                </a:solidFill>
                <a:latin typeface="Times New Roman"/>
              </a:rPr>
              <a:t>M</a:t>
            </a:r>
            <a:r>
              <a:rPr b="0" i="1" lang="fr-FR" sz="3200" spc="-1" strike="noStrike">
                <a:solidFill>
                  <a:srgbClr val="808000"/>
                </a:solidFill>
                <a:latin typeface="Times New Roman"/>
              </a:rPr>
              <a:t>e</a:t>
            </a:r>
            <a:r>
              <a:rPr b="0" i="1" lang="en-US" sz="3200" spc="-1" strike="noStrike">
                <a:solidFill>
                  <a:srgbClr val="808000"/>
                </a:solidFill>
                <a:latin typeface="Times New Roman"/>
              </a:rPr>
              <a:t>thods</a:t>
            </a: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 (</a:t>
            </a: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or </a:t>
            </a: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par</a:t>
            </a: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ts</a:t>
            </a: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of</a:t>
            </a: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 m</a:t>
            </a: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thods),  </a:t>
            </a:r>
            <a:r>
              <a:rPr b="0" i="1" lang="fr-FR" sz="3200" spc="-1" strike="noStrike">
                <a:solidFill>
                  <a:srgbClr val="808000"/>
                </a:solidFill>
                <a:latin typeface="Times New Roman"/>
              </a:rPr>
              <a:t>CASE tools</a:t>
            </a: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808000"/>
                </a:solidFill>
                <a:latin typeface="Times New Roman"/>
              </a:rPr>
              <a:t>Stream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To de</a:t>
            </a: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fin</a:t>
            </a: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e </a:t>
            </a:r>
            <a:r>
              <a:rPr b="0" i="1" lang="en-US" sz="3200" spc="-1" strike="noStrike">
                <a:solidFill>
                  <a:srgbClr val="808000"/>
                </a:solidFill>
                <a:latin typeface="Times New Roman"/>
              </a:rPr>
              <a:t>C</a:t>
            </a:r>
            <a:r>
              <a:rPr b="0" i="1" lang="fr-FR" sz="3200" spc="-1" strike="noStrike">
                <a:solidFill>
                  <a:srgbClr val="808000"/>
                </a:solidFill>
                <a:latin typeface="Times New Roman"/>
              </a:rPr>
              <a:t>ontext</a:t>
            </a: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 where this </a:t>
            </a: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i="1" lang="fr-FR" sz="3200" spc="-1" strike="noStrike">
                <a:solidFill>
                  <a:srgbClr val="808000"/>
                </a:solidFill>
                <a:latin typeface="Times New Roman"/>
              </a:rPr>
              <a:t>CASE Workshop </a:t>
            </a: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 would be used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To explain to </a:t>
            </a:r>
            <a:r>
              <a:rPr b="0" i="1" lang="fr-FR" sz="3200" spc="-1" strike="noStrike">
                <a:solidFill>
                  <a:srgbClr val="808000"/>
                </a:solidFill>
                <a:latin typeface="Times New Roman"/>
              </a:rPr>
              <a:t>Users</a:t>
            </a: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 how this </a:t>
            </a:r>
            <a:r>
              <a:rPr b="0" i="1" lang="fr-FR" sz="3200" spc="-1" strike="noStrike">
                <a:solidFill>
                  <a:srgbClr val="808000"/>
                </a:solidFill>
                <a:latin typeface="Times New Roman"/>
              </a:rPr>
              <a:t>CASE Workshop</a:t>
            </a: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 work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AO/GL Café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2CA-042F-4064-88D6-49A2B25F4C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C1DC2-51B9-4E29-B8E4-CA8867A20306}" type="datetime3">
              <a:rPr lang="en-US"/>
              <a:t>July 29, 2026</a:t>
            </a:fld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CASE Workshop Goa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808000"/>
                </a:solidFill>
                <a:latin typeface="Times New Roman"/>
              </a:rPr>
              <a:t>industrialize</a:t>
            </a: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 the steps of the </a:t>
            </a:r>
            <a:r>
              <a:rPr b="0" i="1" lang="en-US" sz="3200" spc="-1" strike="noStrike">
                <a:solidFill>
                  <a:srgbClr val="808000"/>
                </a:solidFill>
                <a:latin typeface="Times New Roman"/>
              </a:rPr>
              <a:t>Software Engineering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808000"/>
                </a:solidFill>
                <a:latin typeface="Times New Roman"/>
              </a:rPr>
              <a:t>rationalize</a:t>
            </a: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 the Development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To bring up an </a:t>
            </a:r>
            <a:r>
              <a:rPr b="0" i="1" lang="fr-FR" sz="3200" spc="-1" strike="noStrike">
                <a:solidFill>
                  <a:srgbClr val="808000"/>
                </a:solidFill>
                <a:latin typeface="Times New Roman"/>
              </a:rPr>
              <a:t>Added Value</a:t>
            </a: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 in the </a:t>
            </a:r>
            <a:r>
              <a:rPr b="0" i="1" lang="fr-FR" sz="3200" spc="-1" strike="noStrike">
                <a:solidFill>
                  <a:srgbClr val="808000"/>
                </a:solidFill>
                <a:latin typeface="Times New Roman"/>
              </a:rPr>
              <a:t>Approach</a:t>
            </a:r>
            <a:r>
              <a:rPr b="0" lang="fr-FR" sz="3200" spc="-1" strike="noStrike">
                <a:solidFill>
                  <a:srgbClr val="808000"/>
                </a:solidFill>
                <a:latin typeface="Times New Roman"/>
              </a:rPr>
              <a:t> and the </a:t>
            </a:r>
            <a:r>
              <a:rPr b="0" i="1" lang="fr-FR" sz="3200" spc="-1" strike="noStrike">
                <a:solidFill>
                  <a:srgbClr val="808000"/>
                </a:solidFill>
                <a:latin typeface="Times New Roman"/>
              </a:rPr>
              <a:t>CASE Tools linkage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AO/GL Café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A1A-2987-4CFB-BCBD-B7FB19896B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8FEFD-994E-490D-98D8-2032A52069AD}" type="datetime3">
              <a:rPr lang="en-US"/>
              <a:t>July 29, 2026</a:t>
            </a:fld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 Workshop Concep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MERISE Choice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Ideal for modeling databas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UML Choice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Modular Approach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Object-Oriented Technology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Choice of JAVA Language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Object-Oriented Language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Multi-platform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AO/GL Café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C592-94A5-4584-BC20-9B154C97B8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3511C-0E15-4290-B639-DFF62FB23AFC}" type="datetime3">
              <a:rPr lang="en-US"/>
              <a:t>July 29, 2026</a:t>
            </a:fld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Part 3 – CASE Workshop </a:t>
            </a:r>
            <a:br>
              <a:rPr sz="4400"/>
            </a:b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Streams &amp; To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Production Streams &amp; Tool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Documentation Streams &amp; Tool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Configuration Streams &amp; Tools and Referential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AO/GL Café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1AE-DD56-481D-86EC-BC2C52CACB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D9711-02D0-4870-B172-A57032E9C28A}" type="datetime3">
              <a:rPr lang="en-US"/>
              <a:t>July 29, 2026</a:t>
            </a:fld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llik</cp:lastModifiedBy>
  <dcterms:modified xsi:type="dcterms:W3CDTF">2001-03-19T07:55:36Z</dcterms:modified>
  <cp:revision>56</cp:revision>
  <dc:subject/>
  <dc:title>Présentation de GL café</dc:title>
</cp:coreProperties>
</file>